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3652-B822-4333-B377-A7F462B15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BB1F-6C67-408A-9A94-1DDA5DC5A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BE0F-1F54-4B10-8F33-FD60B5E39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AE15-8622-4D9A-966F-22E940452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236D-07E2-46CB-9FF1-6BBB7CD55E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0AA1-7B88-4859-93D2-D626800A3A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4DB5-51C5-41F6-BF27-88F27826B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FCB8-D304-4CE4-95E5-33EB706C0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27AD-D027-44C5-B8CA-B023DC357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449A-7674-4E5B-A60E-2634AB758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AC44-6260-45FF-A56B-AAC52FAAB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31BF-FA94-46B9-84C3-1E8E67D6F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8E28-B52C-4D9D-B451-33533566DF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758E-2BCD-481E-AFF9-D54860F3D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33FA-A6F3-4BD2-9CD3-3367FA072D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6C09-447B-41C1-93E0-00369C6FE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4023-94D9-402F-BAC6-EEFD126CBE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54B-9914-4253-906A-615342427E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6AD-3B82-47E5-AA10-A80D442828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366-35DB-46C4-A22B-05E6726FA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4D1-794D-4459-9AB5-4C9D7742E2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E40-CA88-413A-A701-72CEA9A84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EEB8-19C3-4A90-A626-D97FC48D3F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912-AF17-4647-8BBA-906CBF7BCC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8F2-0804-47C7-8E81-1D3BC3B6A3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854-4A5B-4119-84E3-7A3FE13787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BF1-6BD3-4DFF-BE5C-A54ABAE125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0BD-8863-4999-ADAF-DCFC4E7F16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B48-005D-4CCB-996B-BD8ED92314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4AA-4D84-4DBF-9F40-0B074B865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CA64-13CA-466B-8097-7A9B39D1D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35C0-F5E2-41A7-976B-0E02ADD8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5DED-FC6C-4963-B27C-397C497E9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6AC3-4D87-4C5C-8210-89697FD13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837-6702-4490-B6D5-C0FEF0B0F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26FE-E370-41C7-AA98-74220D875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E47-B093-4BD1-8125-CB8602DA7F4D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81C6-06B7-43FC-BD8B-DD5B543C3A74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032-C3DB-46FB-A7FF-AB9ED435AF16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84F5-68C6-416A-A56F-1297920C16FC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4459-B94F-4B77-8767-A12A165FD056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5E95-B880-459A-902C-65A7F7898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EFFA-2111-4333-A24E-9D92931A9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C167-4785-4928-88CF-458887B91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3E53-18CA-4CFC-824E-AE068228F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A75B-2017-48AB-AECB-8E6491CC1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7B96-4638-43E7-8D38-599233A4B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98440" y="40464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  <a:ea typeface="文鼎中黑"/>
              </a:rPr>
              <a:t>RDQ VA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55736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for loc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Support for Headquart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Electrical Engineering, HW/S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 Engine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nagement Support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ompati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3CE3-9F49-49E3-9A21-7F9149FAB7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22T16:48:38Z</dcterms:modified>
  <cp:revision>332</cp:revision>
  <dc:subject/>
  <dc:title>PHE R&amp;D Organization Charts</dc:title>
</cp:coreProperties>
</file>